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790-7651-4CD3-8048-10EF522A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52A-8AF1-46BA-A5F9-3CD486FF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36C-DEAA-45AE-A2FF-EC8151C8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F13-836D-4BD0-B03F-21CF4B49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2A6-4B02-46BB-99FD-A8BAA09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CEB-0EEB-400D-8E7F-BACDB1B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264-3523-4428-9BBE-38F9CE2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398-A8E6-4A5D-9BA0-0735601F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4B4-81B7-4B03-B653-C4D862BF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5E6-676E-4366-90EB-7ABAD73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D59-7258-465F-B3BE-248201E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EC5-FBC7-4C22-A65E-A47431F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D5C-C027-4BD9-80D4-B84D32146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sk.lung.ca/graphics/anatomy/bronchi.gif&amp;imgrefurl=http://www.sk.lung.ca/content.cfm/bronchi&amp;h=151&amp;w=152&amp;sz=2&amp;tbnid=1X1ONCqRIpYJ:&amp;tbnh=88&amp;tbnw=89&amp;start=2&amp;prev=/images?q=bronchi&amp;hl=en&amp;lr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interq.or.jp/kyuushu/sas/pharynx.gif&amp;imgrefurl=http://www.interq.or.jp/kyuushu/sas/nani.htm&amp;h=385&amp;w=368&amp;sz=7&amp;tbnid=pVRJGTAYM_0J:&amp;tbnh=118&amp;tbnw=112&amp;start=4&amp;prev=/images?q=pharynx&amp;hl=en&amp;lr=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hno.com/images/larynx.gif" TargetMode="External"/><Relationship Id="rId2" Type="http://schemas.openxmlformats.org/officeDocument/2006/relationships/hyperlink" Target="http://images.google.com/imgres?imgurl=www.ishno.com/images/larynx.gif&amp;imgrefurl=http://www.ishno.com/lar.htm&amp;h=217&amp;w=265&amp;sz=23&amp;tbnid=ZjTkp3koqrcJ:&amp;tbnh=88&amp;tbnw=107&amp;start=1&amp;prev=/images?q=larynx&amp;hl=en&amp;lr=" TargetMode="External"/><Relationship Id="rId3" Type="http://schemas.openxmlformats.org/officeDocument/2006/relationships/hyperlink" Target="http://images.google.com/imgres?imgurl=www1.appstate.edu/~clarkhm/swallow_distance/images/larynx.jpg&amp;imgrefurl=http://www1.appstate.edu/~clarkhm/swallow_distance/page2.htm&amp;h=549&amp;w=753&amp;sz=43&amp;tbnid=R5yhI5gb88EJ:&amp;tbnh=102&amp;tbnw=139&amp;start=9&amp;prev=/images?q=larynx&amp;hl=en&amp;lr=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128.196.174.134/resources/content_pages/images_content/tob_rel_images/trachea_larynrx2a.jpg&amp;imgrefurl=http://128.196.174.134/resources/content_pages/Tob_and_Health/Tob_Rel_Illnesses/tri10.htm&amp;h=498&amp;w=339&amp;sz=12&amp;tbnid=9awRsMGOz5kJ:&amp;tbnh=126&amp;tbnw=86&amp;start=12&amp;prev=/images?q=trachea&amp;hl=en&amp;lr=" TargetMode="External"/><Relationship Id="rId2" Type="http://schemas.openxmlformats.org/officeDocument/2006/relationships/hyperlink" Target="http://images.google.com/imgres?imgurl=www.fondazionecarrel.org/carrel/thorac/files/transp/images/trachea.jpg&amp;imgrefurl=http://www.fondazionecarrel.org/carrel/thorac/files/transp/3.htm&amp;h=589&amp;w=674&amp;sz=175&amp;tbnid=EOeKcVe7b74J:&amp;tbnh=119&amp;tbnw=136&amp;start=2&amp;prev=/images?q=trachea&amp;hl=en&amp;lr=" TargetMode="External"/><Relationship Id="rId3" Type="http://schemas.openxmlformats.org/officeDocument/2006/relationships/hyperlink" Target="http://images.google.com/imgres?imgurl=128.196.174.134/resources/content_pages/images_content/tob_rel_images/trachea_larynrx2a.jpg&amp;imgrefurl=http://128.196.174.134/resources/content_pages/Tob_and_Health/Tob_Rel_Illnesses/tri10.htm&amp;h=498&amp;w=339&amp;sz=12&amp;tbnid=9awRsMGOz5kJ:&amp;tbnh=126&amp;tbnw=86&amp;start=12&amp;prev=/images?q=trachea&amp;hl=en&amp;lr=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40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37.3</a:t>
            </a:r>
            <a:br>
              <a:rPr sz="5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ranches that come off of trac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ube leads 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ol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s of the bron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insid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ube is surround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ooth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helps control size of passage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t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ammation and irritation of bronchi and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ronch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219320"/>
            <a:ext cx="2210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i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tructures at the end of each bronchi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in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gas exchang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nto blood, carbon dioxide in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rounded by capil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sthma-alveoli"/>
          <p:cNvPicPr/>
          <p:nvPr/>
        </p:nvPicPr>
        <p:blipFill>
          <a:blip r:embed="rId1"/>
          <a:stretch/>
        </p:blipFill>
        <p:spPr>
          <a:xfrm>
            <a:off x="6477120" y="426708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 and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million alveoli are in a healthy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surface area for ga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issolves in the moisture in the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then diff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diffu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 and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binds with so much oxygen that it increases the oxygen carrying- capacity of the blood more than 60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is the movement of air into and out of the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that drives breathing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i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scles are directly connected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s sit in two sacs = pleural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ottom of the chest cavity is the diaphra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hale, the diaphragm contracts and expands the volume of the chest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chest cavity is tightly sealed, this 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al vacu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ide the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rushes into the lungs 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aling is a passiv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phragm relaxes and lungs return to normal size, placing pressure on the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rushes out of the lungs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w lungs 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is voluntary to a point, then it becomes in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 will tak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rain reads the amount of carbon dioxide in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evel of carbon dioxide gets too high, the diaphragm wil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ion is the exchange of gases between an organism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, as with most organisms, it is the release of carbon dioxide and the uptak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function performed by the respiratory system in humans is to bring about the exchange of oxygen and carbon dioxide between the blood, the air,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iratory system consists of the nose/mouth, pharynx, larynx, trachea, bronchi, bronchioles, and alve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blood vessels are included in the respiratory system, especially the pulmonary artery, pulmonary vein, and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/Mouth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nters the respiratory system through these two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is filtered, warmed, and moist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M00388_"/>
          <p:cNvPicPr/>
          <p:nvPr/>
        </p:nvPicPr>
        <p:blipFill>
          <a:blip r:embed="rId1"/>
          <a:stretch/>
        </p:blipFill>
        <p:spPr>
          <a:xfrm>
            <a:off x="304920" y="3886200"/>
            <a:ext cx="242064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M00387_"/>
          <p:cNvPicPr/>
          <p:nvPr/>
        </p:nvPicPr>
        <p:blipFill>
          <a:blip r:embed="rId2"/>
          <a:stretch/>
        </p:blipFill>
        <p:spPr>
          <a:xfrm>
            <a:off x="3505320" y="4267080"/>
            <a:ext cx="4433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man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in layer of mucus is produced on the lining of the tubes of 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hin layer traps particles of dust or s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 clean the passageways by sweeping the dirt away from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ynx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of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behind the uv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 passagewa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ir an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haryn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057400"/>
            <a:ext cx="2276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ynx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box, Adam’s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vocal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oose flaps of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of the trache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aryn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819520"/>
            <a:ext cx="42670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ade of cartilage that carries air to the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ells that produce mucu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us traps dirt found in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il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ny hairs that move dirt out of the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3:14:19Z</dcterms:created>
  <dc:creator>bpalme</dc:creator>
  <dc:description/>
  <dc:language>en-US</dc:language>
  <cp:lastModifiedBy>Preferred Customer</cp:lastModifiedBy>
  <dcterms:modified xsi:type="dcterms:W3CDTF">2010-02-23T08:55:58Z</dcterms:modified>
  <cp:revision>6</cp:revision>
  <dc:subject/>
  <dc:title> Chapter 37.3: The Respiratory System </dc:title>
</cp:coreProperties>
</file>